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7C2-C94C-4CE4-B432-AC0052A7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1BF-2544-47B0-8ADC-3C3573E0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0C1-C2BD-44F7-B9C6-FBE2D536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6F1-3D69-40F6-8AB3-B3F2EB05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F54-A6F2-407B-9990-38DB21F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558-0B2F-46F1-BDE6-B18095D1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3B3-C65D-40AA-9D60-D6592BA6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8F1-133F-4E57-8C5D-BE88810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A08-F455-4369-B9C9-D31019B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F42-E8CD-4380-A0F6-526A0C9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869-1615-4BB3-8BA8-05D0D759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610-836F-452A-B824-6B64536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6CA-6195-45AE-A99C-64E87246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Extra credit from yesterday on corner of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552760"/>
            <a:ext cx="3020760" cy="4305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9810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E THE  QUESTIONS ON YOUR CLASS HANDOU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67080" y="3333600"/>
            <a:ext cx="4457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733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Extra credit from yesterday on corner of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100764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E THE  QUESTIONS ON YOUR CLASS HANDOU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8381880" cy="422460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your own paper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article that we read yesterday claimed that rap and hip hop lead to inappropriate &amp; unhealthy boy/girl interactions and relationshi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your opinion, what OTHER things contribute to unhealthy/inappropriate interactions?  (List them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HW on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93848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rite down the single most SHOCKING observation from your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2) Why did this event stick out to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3)  Write down your overall thoughts on keeping this lo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ine that you ar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newspaper article, like the one we read Monday.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itle i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Sexual Harassment at Southeast: Is it really a problem?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irst paragraph(s) of this essay.  Your introduction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the reader’s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the reader to keep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e reader for the rest of the article by providing necessary background information (on sexual harassment and South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pinion/stanc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HW on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381880" cy="331092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have been defining the issue of sexual harassment and discussing its caus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your opinion, what are a few solutions to this probl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songs are like tatto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now I’ve been to sea 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wn and anchor 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let me sail awa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y blue, here is a song for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 on a p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neath the sk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ty space to fill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here are so many sinking 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ve got to keep thin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ke it thru these wa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, booze, and 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les, guns, and gr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laughs, lots of laug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body ‘s saying that hells the hippest way to g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I don’t think s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’m going to take a look around it th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I love you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here is a shell for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you’ll hear a si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ggy lulla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your song from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26:04Z</dcterms:created>
  <dc:creator>Carolynn</dc:creator>
  <dc:description/>
  <dc:language>en-US</dc:language>
  <cp:lastModifiedBy>Carolynn</cp:lastModifiedBy>
  <dcterms:modified xsi:type="dcterms:W3CDTF">2010-03-22T20:47:00Z</dcterms:modified>
  <cp:revision>5</cp:revision>
  <dc:subject/>
  <dc:title>Slide 1</dc:title>
</cp:coreProperties>
</file>